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EE86-AFE8-4A17-8B9A-BD4EF6FA15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68BD-EA0F-4F27-982E-CA6506D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CB4C5-9B49-4349-9529-B78B899A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20CBDC-7A0A-4A39-97B1-9D95E5DA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26BEC-F30B-4BB7-BA55-C722814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92280-26AB-4046-ACDD-6E1DA63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1FE421-A1F6-4F5D-9062-6933F1FF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3B65C1-113A-42EF-8FC6-4BBC0DD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FF1CB-11F3-48BD-ABD4-7F778881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1D5D89-505A-4038-B1C2-9B75502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D5743-358D-4560-920D-CFEF606E2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F6EE-C1A4-4532-9617-E491AFF9B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D389-C5E6-4F8A-A567-6043E03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9606-880C-4A84-B20E-158FC0F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07E47-72E8-4523-BBF6-49BA34B2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BE84-AE06-4A30-A6DE-150EE46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4549-F1EF-43D2-9C3A-A4FA804E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0BE79-3A49-4994-8062-A060AFEC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5CEC-E4ED-4D53-BEE1-9D220A8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0ED4-E9BD-4668-8043-77C7F54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D263-5B06-41A2-8CF6-6E59C509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C452-547F-49B2-BCA7-942799DD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7216-8BD1-436A-9667-F7B53AD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0B7C-1BB6-4570-BA9D-AD2D69B564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E3818-45E4-42A8-AB7B-40FBE45D6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FBF1A9-B19B-406B-9F07-0E34EEFF8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8474C-E62A-472D-897B-967D4C7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DC498-AB44-4EE1-AB6E-3DAF3648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08770-AC02-40A0-9252-0503DAA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C5C4C4-F9C7-4409-935E-A4AD851A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A1458-E4D0-4E16-BCE1-83CEBFDD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2F2568-6794-4741-9B37-E07ADEF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75EC4-C3D1-4349-BB2C-8AD2257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D6ED1-EB7A-44EB-97C4-7B292FB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3B2BE-6907-4D85-BE1A-3537033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25B41-06E8-4BF3-81E1-530435AC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0D2C9-E26A-41AF-9DBD-849FB5BB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80ECBF-AC40-4025-91FC-70B922927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94170-7B89-439B-B95F-4D69E160C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6A411-E4D0-4593-AAD5-F270747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A82E5-79E6-42A9-9410-650A6B1B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73992-187D-46E5-9E5B-C94BE1A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1E205-F1FD-4213-991A-AD340493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9DA09-CF94-461A-ABDE-A85AF8F6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BF181-8A17-463E-8E97-C1AA2ED6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8419-D55D-480B-9134-4FD9DE2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B6132-F1D1-46D0-8252-81D84ED6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09C3C-BD12-42B2-A7BE-A702C544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0CD29-84B7-4007-8565-3158C27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5A289-B873-43AE-B435-1C7E2D2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F084C-A881-4405-ACC9-7262705F9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34B95-2A15-4A3B-BD54-B6D5C0828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1017F-72DD-4210-9E97-C0B3DE6C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21016-13FF-4433-9AFC-872745D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7F79E-DE6C-4AB2-AD8D-4E90E7BB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238C-1364-45DA-812C-C811A84C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5C893-F2A4-45C2-9D78-BC75F61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5CD86-4786-47A0-97F9-1E1796D2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07635-6341-4379-A9AA-84C61A32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6C3A-5570-4EF9-8041-FA73265C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18790-56C9-4F1C-9F37-5BC5621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16FE6-727D-4253-B0B2-AF949438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0B367-F301-4B8A-B2DC-9CD9AE4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23BD5-54C6-4BB2-84DE-289910FFA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BAB8A-9FAE-451E-A660-F280057E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57A7-8CB2-474E-B892-4FA149C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295AE-BEA9-4B0F-BE04-69A4A06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5793-39E2-45AA-8FE8-38F6C50A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81302-EAAC-440D-B5FF-FF26509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FB676-BF39-4600-AFC0-DAB148E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7244-555D-4225-85F6-CBD33F20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ADB41-4FFC-4457-A0C5-33B6D89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C6EF2-C383-4793-9A73-21D66250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8E67A-BBA4-4E6D-A978-01FA86D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E8FC2-8FD6-4FF0-997A-0BDAD765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B8415-91B8-4540-B2ED-7F8BC769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B930A-352B-4C86-8911-6E6C9A21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98DFA-8EA5-4AF0-A8C7-6C9F1E0B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5B1C5-348F-415B-B183-EC3A7EB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06AED-C777-497A-ACD8-E16FC9A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A7C34-306F-46E8-8AFF-CA7BD21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FB42-DAEE-460E-A63C-370B9A2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6A4D-637D-445E-A7E2-BA08D2E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60FC3-3901-4732-9E79-7D39868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B04E-645E-4837-9D72-E33F0BB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8F753-062F-4E39-B9E5-F5C31FF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DE45-0A91-49C3-AA7D-27E1BF1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7132-6ED9-4A86-A0F7-4F37410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7BC56-39BA-4FC1-B1F3-D46BC8D6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2A52A-D985-44D3-9FF2-73B7CD06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842FC-474C-4BC6-8772-DE2B2BF8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BE721-1D0D-4A8E-930B-B9F45D7C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5165E-8B6D-4760-B8B6-7EA0FA22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C95A6-20AB-45FD-8582-F1E212BC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3042A-80A0-4295-93BC-B300E9F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0CBDE-8E64-4BE3-9B7B-E90A966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208C4-E2E1-4CA7-BDFB-8E9097F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7F167-B0C0-43DC-A90C-4C846F3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C3EEA-5E98-4E30-A428-010803A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06DE9-F7F2-4C4A-A281-BAB44192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D87A9-AE7B-4CA2-AE09-B898DC47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81A89-6DC9-4EF9-BD63-BBED132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D1151-3301-4EB4-BFA2-A1375E48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730E3-D0B4-49A4-9B22-2F0E02DE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5D39A-C7B9-4293-8A62-9D586637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A71BB-DA69-45E3-9EFA-EEE6562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730BF-6A25-496B-B5E3-F7541BF0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7A9C7-47FC-487D-B0AE-84D2DED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AB6C8-68DD-4550-BC04-CC9ED21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B7459-44C2-4680-94D5-EDC8613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1C520-2A0C-4416-A336-F1DD767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5478-DD0E-4A35-887B-33BB55A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1DA6-0875-4BBA-90C0-9DB6F85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D9767-ECEF-40EA-8C59-6F38DD2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D848C-A0AB-42CD-A9C7-05B22DF9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326BA-9843-426C-A26E-1203D13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909DE-5A9F-4949-9EB2-0DA4756F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141AC-1571-40FE-BB38-79E1E049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F3639-3867-462D-9928-435CF531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C7B1A-9E4D-4535-A404-61C9EDE8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8F5D1-5595-4531-B629-85D61D94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F2761-1C63-4057-86EC-FBD0987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08218-589C-4D62-923B-290D866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069A-7928-4B50-9E68-E4A7A56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A3E46-B82B-4C01-AEF2-087ABFF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21A8C-629A-428D-B874-68A1799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9862A-E5E8-412C-938F-6FACD68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B655D-E2D9-4C17-A889-878D5F8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3B96B-AA8A-4533-8DFF-D4C887D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88DD3-DBC9-41A0-A6E8-E70786D1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A948B-086B-4359-96AC-FC03484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6AB9D-097A-457D-96C9-F8F7EE51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3AAAA-A041-4546-8EBA-0E6EB00F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666CA-0394-4DB7-A0C7-2DCD614D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60D8-4DEA-4E51-B138-1DFB146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C08B4-A856-4876-B9B0-8ADE91C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F9433-045A-4539-B089-5A31231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4D794-8FF7-4B5A-857D-827B2FF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F8830-10DE-4BD7-908B-F23860D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A83DF-E2FA-4A84-9C42-A60EB18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92701-4BCD-4F0C-927F-0DD84A5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A2EE0-7BB7-4040-9333-9A7BEB5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24BAF-DC55-4E1F-9962-60268826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C4B51-3ED5-4EB9-A7AF-93B9F281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30A43-E842-4033-8D73-290EC10F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7E03-EFBA-4C95-BC34-9B549F07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3896C-0B44-40AA-88F7-E9CAF21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2A18C-80CD-4259-8535-016EEDF0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891C0-8C40-471D-B02A-EB22BD7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164B8-38DF-4175-A63D-8CEDAB1C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6EE05-9702-4C15-9AD1-56A15A0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3FC4B-18C8-4658-A881-FE53662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4D257-050A-4E99-93C8-E97B0E7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D1671-D8BF-4E72-8687-D600B9F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AD74CD-DE5C-42E0-B3AB-0438B11A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43765-845A-4E57-B407-EADB1A56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A0637-F682-4168-A63D-2F3C776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09014-7B39-4AC5-9B0A-CC0E5299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13F0F-6A22-410C-9B79-690209EF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E244F-1B23-4B31-8B7C-1C8AB786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BE418-B153-47EA-B01B-19D5C8DB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BD207-D037-4892-B297-BF906C77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AFCB2-A23C-4DE5-AF92-8C5C750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D1182-47BE-4B60-AE97-442C721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814F6-E3D7-4D69-AAC5-415730E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57312-263F-4DE9-972B-7EF1C46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D9712-8288-4858-8519-58982C2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837F0-6B91-42F3-9F10-99D90C2557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829B2-38F1-4C13-9E1D-B8FA387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5244F-E26C-4CA8-9C08-98091372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74844-B312-4871-8DD7-BDD6B3EC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544E9-7F82-4C2C-AD02-5F637A5F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A96FF-8230-4365-B8BA-2003A63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26D77-5D8D-4024-BEDF-8ECA211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C9651-8CFA-4ADE-BA06-8A6ED017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42E8A-BDE9-49AC-95D9-7662497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86C35-6B15-4496-8E44-3BEC7D7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B337D-B3DC-47FD-A651-2414DD7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FEAB5-AF6F-4A84-8F15-51E7ABD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5DB657-B8A8-4867-81DE-99373B94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F22F3-D388-431F-805C-2F9174A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BD1AF-2B01-4920-9719-C8531857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505CA-D4B7-4340-BB34-C2B219C7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086A1-4F6B-47B8-A7B9-BD2BEFB9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5F014-8F82-49F6-AFA6-CD5152EE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D4253-69DF-421D-ACDF-B749404F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D2BFC-9EE3-43F1-B93D-AD21272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1D057-E7AF-41BE-B226-EC8029F2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F2A8B-F6A2-41F0-8F24-3D998A10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0829E-84F1-4A2E-ABDD-0FBDF83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B1383-A2E5-4FEC-9D60-6DF96E8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F68FC-3953-4F1B-B8C1-0116C53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DA0C4-17A3-4168-9A1B-AAC5A09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EDBBD-36EA-4017-A51A-3CC834D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F825A-2F41-4FFC-95C1-3F380CC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B1903-1B8A-4BDE-ACCC-E611044E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091E3-DB57-437A-8322-5E4C82D4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08F41-7F85-4462-A1AA-853164BC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C94FC-06D4-4335-89D8-6BC3C68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9788E-2C33-42CE-AE4C-D955D113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06C7E-15D8-4948-AD1D-413A3A9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7EBED-9948-4203-BC8B-86AB935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F7200-512D-4DA8-B053-7C35E7F3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95705-BA82-4C79-838B-CC9597D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9A4C3-F570-4BD3-B0B1-A3F0BEE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EEF2C-7CEF-4D57-9779-5C93CD31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F6D49-6878-4818-9995-F8B85341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D567E-38E0-48EE-A143-8631263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704B3-AC50-452D-B167-A7ED6770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656C6-AB89-4E88-BCA3-A71D0464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C3942-3687-4D63-BF3B-8676DBB3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F32A-146C-466D-9C58-7E581B78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41563-CE14-4235-9B15-CCDA08B1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F67DD-E2CE-443D-A3D6-D0FD9FE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40A3E-0B15-46DC-AA7D-5F04993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C746D-5A10-4C4E-8FED-BE4B1C6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A1E22-3120-4774-AB71-A7D49A1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DBC5B-9DB7-4E43-B8A7-1FE0734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11DB8-73CA-484E-B012-F4EF21401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FC5A-647B-4C0C-8728-C14099F3A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00AB-9CFC-43DE-9B4E-D91AAD2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D709-6B74-42C8-803A-17C3E3E0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0AD3-9AC3-497E-A40D-F6BD5FD1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6948-6E9B-4145-898F-D31E6801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3989-55EF-4ED8-A179-16BCF58F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2EEC-10FE-4988-BB81-DD4D7E8B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6C78-23F9-4501-8019-7944D7C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7F69-B136-4FAD-9F1D-F7AF132C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F875-6C28-4A68-A4A4-05A26E31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3A5C-E763-46A0-B873-FAA53351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8A9A-9169-4F2F-AE66-37076D7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6827-B66F-446E-9895-DC28D97D6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0F57E-77C6-40A4-860E-658BE251D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244E-BA27-43DB-A8E2-A51E4045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585F4-CEAE-4574-86AE-F03F2A3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83FAE-A2F3-4700-9A7C-0445F21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80733-23B9-42C8-9248-72B2E27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A6E5A-91E5-4FA9-920D-75D6262D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7802A-9244-49CC-A750-8145E5CB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2673C-F1A4-4C99-A077-21C4A608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FDD4C-DA0A-4B01-9263-29D2A33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105BF-4A52-4473-A67C-192FF050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F0A3D-7DDB-451B-BB9D-E72B351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9D789-F650-4C4F-A95B-CA781BD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0692-AE3C-402B-BA28-F84B4CD2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2E688-7FA1-4427-BE09-A6B022A37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E0899-97BA-4766-A25F-89F62C8CC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D9E81-3F8E-4F49-B622-2425711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909BB-753B-4082-A859-AE8EAF9D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C0ACB7-EE8F-4F6F-975C-56C9D0C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0E25D-ADAD-4180-966C-8742A248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1332BF-1BA7-4A67-A8D4-46656A6F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0FCC6A-5475-4040-A679-59354422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2370F-354D-46C7-B650-B737781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F7BC5-B710-4C47-B4FF-3C09F7B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452B-0DEB-460B-87CB-E8EC84D6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0DE179-7602-45FB-943A-7CD693C4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2A096-141E-47EB-B2B3-89D05849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61A2C8-48D0-4493-A380-B69C2F46C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19B7-2DE5-4651-87E7-6C9091F9A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7DCF-3A06-4C99-923D-ADF09FC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C7BA-D0FF-4365-9918-6985FD2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57DD-18E9-4CC4-9C6B-29B13C7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0DFB-C7CE-4BFB-89C5-CCADC470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B3D9-AB93-487D-9A65-BCCBBD82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90E8-2AD4-4D12-A690-AD2226E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FE1F-0DA3-49FC-8852-AED701E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9921-CFC0-454C-B4DE-D51882F1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442B-E51B-4CC8-A86A-FA8D4862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D634-B09A-4A66-A689-41CC64B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0901-4FE0-4E22-9563-EF8A7C7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F295-E7E9-4D2D-8CC7-364C32A86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4E46D-6175-4E11-9ED2-F8C4A049C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3B2D0-83D9-4113-88B2-C3AE8377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1C0A7-FC77-4351-A145-FE2E7709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AA5A3-272A-4A64-9D32-7F36136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CBF20-33C2-4A33-B313-19BC9F95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50E8-8B9A-4917-BFC3-ACFE81D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789EE-B5E9-43CC-B1D1-F54E2F02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8550B-53CB-4FE9-A518-3B6350F4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8335A-E5F5-408A-8F1F-0D119728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2D58E-8D83-4A4A-BB8E-FFDA28E0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62FAB-5196-44CE-8CC0-7D6AC85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52F58-3544-4270-94B8-EEE184C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E889A-9C76-4031-875B-977C3603AA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D10BC-9196-449E-8291-E7B62B260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F0B5A-97D6-4C3C-8A31-1E35432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BF91BF-3004-4FC1-9F08-37257AF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63DC-D723-4E6E-89BD-0D155641D5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22CB-AC6B-4DCC-9CC5-F2999BB62A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5C6-A21D-4DB4-BD71-AD6BE4E536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D86C-E335-4B7E-B341-4CC654ACD7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7346-A572-4A62-80CD-79C072C880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8656-FAEB-46BB-9CE4-DD97F6E73CC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4CD-F4FA-44EB-829E-7412B92157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3A91-F009-47C0-82E0-B8B69A05C1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5AC-32AC-42E2-A92D-5267D16B2E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5F1-2379-4624-AF55-224B4660A8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7DD-E85E-46CD-B71E-36F0C86C10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6E7-6558-4C3D-A151-4A3C565CDA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4051-EF79-45AC-AE2C-DFF4CEC96F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7108-1CEB-4BB3-AFED-3690739DE5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772A-8CF7-4B11-8719-C8D35EBE73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202-0551-441D-862A-3D9926DA5D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B2E1-3291-4980-B32D-928B1239BF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84D-67B6-4A34-A1CD-991B03C8DB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441-F02D-4ED4-99B3-BBBA2F66AB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D73-7F52-4A27-B450-FD49F61B66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859-C751-46F9-9BE5-6D85EE6E80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3C5-0FE1-4D50-B2D2-7060290F56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10A-48F6-4668-B668-58E3E65A71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689E-0B95-47FC-BD3B-AD9D637129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0524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多 位 数 的 认 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14400" y="88920"/>
            <a:ext cx="3245040" cy="525600"/>
            <a:chOff x="-14400" y="88920"/>
            <a:chExt cx="324504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6080" y="88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14400" y="183960"/>
              <a:ext cx="430200" cy="273600"/>
              <a:chOff x="-14400" y="183960"/>
              <a:chExt cx="43020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28240" y="348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760" y="311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8240" y="221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760" y="198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400" y="327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0" y="299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400" y="212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400" y="183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501480" y="10332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回顾整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1216080" y="1411200"/>
          <a:ext cx="6954840" cy="2957400"/>
        </p:xfrm>
        <a:graphic>
          <a:graphicData uri="http://schemas.openxmlformats.org/drawingml/2006/table">
            <a:tbl>
              <a:tblPr/>
              <a:tblGrid>
                <a:gridCol w="1071720"/>
                <a:gridCol w="890280"/>
                <a:gridCol w="411480"/>
                <a:gridCol w="414000"/>
                <a:gridCol w="412920"/>
                <a:gridCol w="417600"/>
                <a:gridCol w="417600"/>
                <a:gridCol w="415800"/>
                <a:gridCol w="417600"/>
                <a:gridCol w="417240"/>
                <a:gridCol w="417600"/>
                <a:gridCol w="415800"/>
                <a:gridCol w="417600"/>
                <a:gridCol w="417600"/>
              </a:tblGrid>
              <a:tr h="7398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1" name="Group 73"/>
          <p:cNvGrpSpPr/>
          <p:nvPr/>
        </p:nvGrpSpPr>
        <p:grpSpPr>
          <a:xfrm>
            <a:off x="2352600" y="3494160"/>
            <a:ext cx="5924520" cy="812880"/>
            <a:chOff x="2352600" y="3494160"/>
            <a:chExt cx="5924520" cy="812880"/>
          </a:xfrm>
        </p:grpSpPr>
        <p:sp>
          <p:nvSpPr>
            <p:cNvPr id="1012" name="文本框 62"/>
            <p:cNvSpPr/>
            <p:nvPr/>
          </p:nvSpPr>
          <p:spPr>
            <a:xfrm>
              <a:off x="7731000" y="349416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文本框 72"/>
            <p:cNvSpPr/>
            <p:nvPr/>
          </p:nvSpPr>
          <p:spPr>
            <a:xfrm>
              <a:off x="7318440" y="349416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文本框 73"/>
            <p:cNvSpPr/>
            <p:nvPr/>
          </p:nvSpPr>
          <p:spPr>
            <a:xfrm>
              <a:off x="6891120" y="349416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文本框 74"/>
            <p:cNvSpPr/>
            <p:nvPr/>
          </p:nvSpPr>
          <p:spPr>
            <a:xfrm>
              <a:off x="6465960" y="349416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文本框 75"/>
            <p:cNvSpPr/>
            <p:nvPr/>
          </p:nvSpPr>
          <p:spPr>
            <a:xfrm>
              <a:off x="6056280" y="349416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文本框 76"/>
            <p:cNvSpPr/>
            <p:nvPr/>
          </p:nvSpPr>
          <p:spPr>
            <a:xfrm>
              <a:off x="527148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 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文本框 77"/>
            <p:cNvSpPr/>
            <p:nvPr/>
          </p:nvSpPr>
          <p:spPr>
            <a:xfrm>
              <a:off x="486180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 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文本框 78"/>
            <p:cNvSpPr/>
            <p:nvPr/>
          </p:nvSpPr>
          <p:spPr>
            <a:xfrm>
              <a:off x="443016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 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文本框 79"/>
            <p:cNvSpPr/>
            <p:nvPr/>
          </p:nvSpPr>
          <p:spPr>
            <a:xfrm>
              <a:off x="4376520" y="3513240"/>
              <a:ext cx="5461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80"/>
            <p:cNvSpPr/>
            <p:nvPr/>
          </p:nvSpPr>
          <p:spPr>
            <a:xfrm>
              <a:off x="2352600" y="362916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文本框 78"/>
            <p:cNvSpPr/>
            <p:nvPr/>
          </p:nvSpPr>
          <p:spPr>
            <a:xfrm>
              <a:off x="277740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 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文本框 77"/>
            <p:cNvSpPr/>
            <p:nvPr/>
          </p:nvSpPr>
          <p:spPr>
            <a:xfrm>
              <a:off x="319644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 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文本框 76"/>
            <p:cNvSpPr/>
            <p:nvPr/>
          </p:nvSpPr>
          <p:spPr>
            <a:xfrm>
              <a:off x="3602880" y="3513240"/>
              <a:ext cx="9118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 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87"/>
          <p:cNvGrpSpPr/>
          <p:nvPr/>
        </p:nvGrpSpPr>
        <p:grpSpPr>
          <a:xfrm>
            <a:off x="1082520" y="1503360"/>
            <a:ext cx="7186320" cy="2579040"/>
            <a:chOff x="1082520" y="1503360"/>
            <a:chExt cx="7186320" cy="2579040"/>
          </a:xfrm>
        </p:grpSpPr>
        <p:sp>
          <p:nvSpPr>
            <p:cNvPr id="1026" name="文本框 18"/>
            <p:cNvSpPr/>
            <p:nvPr/>
          </p:nvSpPr>
          <p:spPr>
            <a:xfrm>
              <a:off x="1144440" y="3622680"/>
              <a:ext cx="12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计数单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文本框 56"/>
            <p:cNvSpPr/>
            <p:nvPr/>
          </p:nvSpPr>
          <p:spPr>
            <a:xfrm>
              <a:off x="1130040" y="2535120"/>
              <a:ext cx="12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数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文本框 110"/>
            <p:cNvSpPr/>
            <p:nvPr/>
          </p:nvSpPr>
          <p:spPr>
            <a:xfrm>
              <a:off x="1082520" y="1522080"/>
              <a:ext cx="13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数  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文本框 142"/>
            <p:cNvSpPr/>
            <p:nvPr/>
          </p:nvSpPr>
          <p:spPr>
            <a:xfrm>
              <a:off x="6788880" y="1503360"/>
              <a:ext cx="9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个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143"/>
            <p:cNvSpPr/>
            <p:nvPr/>
          </p:nvSpPr>
          <p:spPr>
            <a:xfrm>
              <a:off x="5145840" y="1503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万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文本框 144"/>
            <p:cNvSpPr/>
            <p:nvPr/>
          </p:nvSpPr>
          <p:spPr>
            <a:xfrm>
              <a:off x="3502080" y="1503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亿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Group 94"/>
            <p:cNvGrpSpPr/>
            <p:nvPr/>
          </p:nvGrpSpPr>
          <p:grpSpPr>
            <a:xfrm>
              <a:off x="3150360" y="2212920"/>
              <a:ext cx="5118480" cy="1150200"/>
              <a:chOff x="3150360" y="2212920"/>
              <a:chExt cx="5118480" cy="1150200"/>
            </a:xfrm>
          </p:grpSpPr>
          <p:sp>
            <p:nvSpPr>
              <p:cNvPr id="1033" name="文本框 132"/>
              <p:cNvSpPr/>
              <p:nvPr/>
            </p:nvSpPr>
            <p:spPr>
              <a:xfrm>
                <a:off x="565704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十万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文本框 133"/>
              <p:cNvSpPr/>
              <p:nvPr/>
            </p:nvSpPr>
            <p:spPr>
              <a:xfrm>
                <a:off x="607644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万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文本框 134"/>
              <p:cNvSpPr/>
              <p:nvPr/>
            </p:nvSpPr>
            <p:spPr>
              <a:xfrm>
                <a:off x="648756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千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文本框 135"/>
              <p:cNvSpPr/>
              <p:nvPr/>
            </p:nvSpPr>
            <p:spPr>
              <a:xfrm>
                <a:off x="772272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个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文本框 136"/>
              <p:cNvSpPr/>
              <p:nvPr/>
            </p:nvSpPr>
            <p:spPr>
              <a:xfrm>
                <a:off x="730980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十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文本框 137"/>
              <p:cNvSpPr/>
              <p:nvPr/>
            </p:nvSpPr>
            <p:spPr>
              <a:xfrm>
                <a:off x="6905160" y="2212920"/>
                <a:ext cx="546120" cy="11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百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文本框 138"/>
              <p:cNvSpPr/>
              <p:nvPr/>
            </p:nvSpPr>
            <p:spPr>
              <a:xfrm>
                <a:off x="524736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百万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文本框 139"/>
              <p:cNvSpPr/>
              <p:nvPr/>
            </p:nvSpPr>
            <p:spPr>
              <a:xfrm>
                <a:off x="481860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千万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文本框 141"/>
              <p:cNvSpPr/>
              <p:nvPr/>
            </p:nvSpPr>
            <p:spPr>
              <a:xfrm>
                <a:off x="440604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亿  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文本框 132"/>
              <p:cNvSpPr/>
              <p:nvPr/>
            </p:nvSpPr>
            <p:spPr>
              <a:xfrm>
                <a:off x="399168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十亿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文本框 138"/>
              <p:cNvSpPr/>
              <p:nvPr/>
            </p:nvSpPr>
            <p:spPr>
              <a:xfrm>
                <a:off x="357876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百亿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文本框 139"/>
              <p:cNvSpPr/>
              <p:nvPr/>
            </p:nvSpPr>
            <p:spPr>
              <a:xfrm>
                <a:off x="3150360" y="2212920"/>
                <a:ext cx="54612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黑体"/>
                  </a:rPr>
                  <a:t>千亿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文本框 140"/>
            <p:cNvSpPr/>
            <p:nvPr/>
          </p:nvSpPr>
          <p:spPr>
            <a:xfrm>
              <a:off x="2143080" y="154116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Text Box 109"/>
          <p:cNvSpPr/>
          <p:nvPr/>
        </p:nvSpPr>
        <p:spPr>
          <a:xfrm>
            <a:off x="2181960" y="4554360"/>
            <a:ext cx="4128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区别数位与计数单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相邻两个计数单位之间的进率是多少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40"/>
          <p:cNvSpPr/>
          <p:nvPr/>
        </p:nvSpPr>
        <p:spPr>
          <a:xfrm>
            <a:off x="2143080" y="254304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2"/>
          <p:cNvGrpSpPr/>
          <p:nvPr/>
        </p:nvGrpSpPr>
        <p:grpSpPr>
          <a:xfrm>
            <a:off x="-14400" y="88920"/>
            <a:ext cx="3245040" cy="525600"/>
            <a:chOff x="-14400" y="88920"/>
            <a:chExt cx="3245040" cy="525600"/>
          </a:xfrm>
        </p:grpSpPr>
        <p:pic>
          <p:nvPicPr>
            <p:cNvPr id="104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6080" y="88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0" name="组合 4"/>
            <p:cNvGrpSpPr/>
            <p:nvPr/>
          </p:nvGrpSpPr>
          <p:grpSpPr>
            <a:xfrm>
              <a:off x="-14400" y="183960"/>
              <a:ext cx="430200" cy="273600"/>
              <a:chOff x="-14400" y="183960"/>
              <a:chExt cx="430200" cy="273600"/>
            </a:xfrm>
          </p:grpSpPr>
          <p:sp>
            <p:nvSpPr>
              <p:cNvPr id="1051" name="椭圆 11"/>
              <p:cNvSpPr/>
              <p:nvPr/>
            </p:nvSpPr>
            <p:spPr>
              <a:xfrm rot="16200000">
                <a:off x="228240" y="348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760" y="311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29"/>
              <p:cNvSpPr/>
              <p:nvPr/>
            </p:nvSpPr>
            <p:spPr>
              <a:xfrm rot="16200000">
                <a:off x="228240" y="221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760" y="198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400" y="327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0" y="299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400" y="212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400" y="183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TextBox 3"/>
          <p:cNvSpPr/>
          <p:nvPr/>
        </p:nvSpPr>
        <p:spPr>
          <a:xfrm>
            <a:off x="430200" y="130320"/>
            <a:ext cx="29908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复习应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785880" y="1913040"/>
          <a:ext cx="7603920" cy="2593800"/>
        </p:xfrm>
        <a:graphic>
          <a:graphicData uri="http://schemas.openxmlformats.org/drawingml/2006/table">
            <a:tbl>
              <a:tblPr/>
              <a:tblGrid>
                <a:gridCol w="1171080"/>
                <a:gridCol w="974880"/>
                <a:gridCol w="449280"/>
                <a:gridCol w="452520"/>
                <a:gridCol w="450720"/>
                <a:gridCol w="457200"/>
                <a:gridCol w="455760"/>
                <a:gridCol w="455400"/>
                <a:gridCol w="455760"/>
                <a:gridCol w="455400"/>
                <a:gridCol w="459000"/>
                <a:gridCol w="453960"/>
                <a:gridCol w="455760"/>
                <a:gridCol w="457200"/>
              </a:tblGrid>
              <a:tr h="73980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1" name="Group 73"/>
          <p:cNvGrpSpPr/>
          <p:nvPr/>
        </p:nvGrpSpPr>
        <p:grpSpPr>
          <a:xfrm>
            <a:off x="652320" y="2004840"/>
            <a:ext cx="7829280" cy="1860480"/>
            <a:chOff x="652320" y="2004840"/>
            <a:chExt cx="7829280" cy="1860480"/>
          </a:xfrm>
        </p:grpSpPr>
        <p:sp>
          <p:nvSpPr>
            <p:cNvPr id="1062" name="文本框 56"/>
            <p:cNvSpPr/>
            <p:nvPr/>
          </p:nvSpPr>
          <p:spPr>
            <a:xfrm>
              <a:off x="699840" y="303696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数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文本框 110"/>
            <p:cNvSpPr/>
            <p:nvPr/>
          </p:nvSpPr>
          <p:spPr>
            <a:xfrm>
              <a:off x="652320" y="2023560"/>
              <a:ext cx="13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数  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文本框 142"/>
            <p:cNvSpPr/>
            <p:nvPr/>
          </p:nvSpPr>
          <p:spPr>
            <a:xfrm>
              <a:off x="6859080" y="2004840"/>
              <a:ext cx="9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个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文本框 143"/>
            <p:cNvSpPr/>
            <p:nvPr/>
          </p:nvSpPr>
          <p:spPr>
            <a:xfrm>
              <a:off x="5216400" y="2004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万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文本框 144"/>
            <p:cNvSpPr/>
            <p:nvPr/>
          </p:nvSpPr>
          <p:spPr>
            <a:xfrm>
              <a:off x="3286440" y="2004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亿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文本框 132"/>
            <p:cNvSpPr/>
            <p:nvPr/>
          </p:nvSpPr>
          <p:spPr>
            <a:xfrm>
              <a:off x="563400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万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文本框 133"/>
            <p:cNvSpPr/>
            <p:nvPr/>
          </p:nvSpPr>
          <p:spPr>
            <a:xfrm>
              <a:off x="610452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万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134"/>
            <p:cNvSpPr/>
            <p:nvPr/>
          </p:nvSpPr>
          <p:spPr>
            <a:xfrm>
              <a:off x="655740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文本框 135"/>
            <p:cNvSpPr/>
            <p:nvPr/>
          </p:nvSpPr>
          <p:spPr>
            <a:xfrm>
              <a:off x="793548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个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文本框 136"/>
            <p:cNvSpPr/>
            <p:nvPr/>
          </p:nvSpPr>
          <p:spPr>
            <a:xfrm>
              <a:off x="745128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137"/>
            <p:cNvSpPr/>
            <p:nvPr/>
          </p:nvSpPr>
          <p:spPr>
            <a:xfrm>
              <a:off x="7004880" y="2725200"/>
              <a:ext cx="54612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138"/>
            <p:cNvSpPr/>
            <p:nvPr/>
          </p:nvSpPr>
          <p:spPr>
            <a:xfrm>
              <a:off x="517356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万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139"/>
            <p:cNvSpPr/>
            <p:nvPr/>
          </p:nvSpPr>
          <p:spPr>
            <a:xfrm>
              <a:off x="471456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万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141"/>
            <p:cNvSpPr/>
            <p:nvPr/>
          </p:nvSpPr>
          <p:spPr>
            <a:xfrm>
              <a:off x="428112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亿  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文本框 132"/>
            <p:cNvSpPr/>
            <p:nvPr/>
          </p:nvSpPr>
          <p:spPr>
            <a:xfrm>
              <a:off x="381564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十亿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138"/>
            <p:cNvSpPr/>
            <p:nvPr/>
          </p:nvSpPr>
          <p:spPr>
            <a:xfrm>
              <a:off x="335160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百亿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文本框 139"/>
            <p:cNvSpPr/>
            <p:nvPr/>
          </p:nvSpPr>
          <p:spPr>
            <a:xfrm>
              <a:off x="2912760" y="2714760"/>
              <a:ext cx="546120" cy="11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黑体"/>
                </a:rPr>
                <a:t>千亿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文本框 140"/>
            <p:cNvSpPr/>
            <p:nvPr/>
          </p:nvSpPr>
          <p:spPr>
            <a:xfrm>
              <a:off x="1855800" y="2043000"/>
              <a:ext cx="11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文本框 140"/>
            <p:cNvSpPr/>
            <p:nvPr/>
          </p:nvSpPr>
          <p:spPr>
            <a:xfrm>
              <a:off x="1866600" y="3012840"/>
              <a:ext cx="11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2"/>
          <p:cNvSpPr/>
          <p:nvPr/>
        </p:nvSpPr>
        <p:spPr>
          <a:xfrm>
            <a:off x="2179440" y="620640"/>
            <a:ext cx="537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在上面的数位顺序表中，写出一个数，让同桌同学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出来。再任意指出这个数中的数字，说出他们的含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写出一个数读出来，让同桌同学写出来，看看与你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的一样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你是怎样读、写多位数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怎样把一个数改写成用“亿”或“万”作单位的数？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能将写出的数改写成用“亿”或“万”作单位的数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组合 2"/>
          <p:cNvGrpSpPr/>
          <p:nvPr/>
        </p:nvGrpSpPr>
        <p:grpSpPr>
          <a:xfrm>
            <a:off x="-14400" y="88920"/>
            <a:ext cx="3245040" cy="525600"/>
            <a:chOff x="-14400" y="88920"/>
            <a:chExt cx="3245040" cy="525600"/>
          </a:xfrm>
        </p:grpSpPr>
        <p:pic>
          <p:nvPicPr>
            <p:cNvPr id="10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6080" y="889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4" name="组合 4"/>
            <p:cNvGrpSpPr/>
            <p:nvPr/>
          </p:nvGrpSpPr>
          <p:grpSpPr>
            <a:xfrm>
              <a:off x="-14400" y="183960"/>
              <a:ext cx="430200" cy="273600"/>
              <a:chOff x="-14400" y="183960"/>
              <a:chExt cx="430200" cy="273600"/>
            </a:xfrm>
          </p:grpSpPr>
          <p:sp>
            <p:nvSpPr>
              <p:cNvPr id="1085" name="椭圆 11"/>
              <p:cNvSpPr/>
              <p:nvPr/>
            </p:nvSpPr>
            <p:spPr>
              <a:xfrm rot="16200000">
                <a:off x="228240" y="3481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760" y="31104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椭圆 29"/>
              <p:cNvSpPr/>
              <p:nvPr/>
            </p:nvSpPr>
            <p:spPr>
              <a:xfrm rot="16200000">
                <a:off x="228240" y="221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760" y="198360"/>
                <a:ext cx="21204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400" y="32760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0" y="2991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4400" y="21204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4400" y="183960"/>
                <a:ext cx="35676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TextBox 3"/>
          <p:cNvSpPr/>
          <p:nvPr/>
        </p:nvSpPr>
        <p:spPr>
          <a:xfrm>
            <a:off x="43164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综合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1139040" y="838080"/>
            <a:ext cx="7075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读出下面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0600                   7056200             13820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504200                 12000900            406098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写出下面横线上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截至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月，我国青少年上网人数约为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三千万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截至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01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年底，我国小学专任教师约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五百六十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四千九百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7278840" y="4294080"/>
            <a:ext cx="934920" cy="360"/>
            <a:chOff x="7278840" y="4294080"/>
            <a:chExt cx="934920" cy="360"/>
          </a:xfrm>
        </p:grpSpPr>
        <p:sp>
          <p:nvSpPr>
            <p:cNvPr id="1096" name="Line 4"/>
            <p:cNvSpPr/>
            <p:nvPr/>
          </p:nvSpPr>
          <p:spPr>
            <a:xfrm>
              <a:off x="7278840" y="4294080"/>
              <a:ext cx="934920" cy="0"/>
            </a:xfrm>
            <a:prstGeom prst="line">
              <a:avLst/>
            </a:prstGeom>
            <a:ln w="16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7278840" y="429408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18040" y="5446440"/>
            <a:ext cx="1499040" cy="14040"/>
            <a:chOff x="6818040" y="5446440"/>
            <a:chExt cx="1499040" cy="14040"/>
          </a:xfrm>
        </p:grpSpPr>
        <p:sp>
          <p:nvSpPr>
            <p:cNvPr id="1099" name="Line 5"/>
            <p:cNvSpPr/>
            <p:nvPr/>
          </p:nvSpPr>
          <p:spPr>
            <a:xfrm flipV="1">
              <a:off x="6818400" y="5446440"/>
              <a:ext cx="1498680" cy="1404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 rot="10800000">
              <a:off x="6818040" y="5446440"/>
              <a:ext cx="149868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309680" y="5845320"/>
            <a:ext cx="1278000" cy="10800"/>
            <a:chOff x="1309680" y="5845320"/>
            <a:chExt cx="1278000" cy="10800"/>
          </a:xfrm>
        </p:grpSpPr>
        <p:sp>
          <p:nvSpPr>
            <p:cNvPr id="1102" name="Line 6"/>
            <p:cNvSpPr/>
            <p:nvPr/>
          </p:nvSpPr>
          <p:spPr>
            <a:xfrm flipV="1">
              <a:off x="1309680" y="5845320"/>
              <a:ext cx="1278000" cy="10800"/>
            </a:xfrm>
            <a:prstGeom prst="line">
              <a:avLst/>
            </a:prstGeom>
            <a:ln w="16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 rot="10800000">
              <a:off x="1309680" y="5845320"/>
              <a:ext cx="1278000" cy="1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 Box 2"/>
          <p:cNvSpPr/>
          <p:nvPr/>
        </p:nvSpPr>
        <p:spPr>
          <a:xfrm>
            <a:off x="1338840" y="693720"/>
            <a:ext cx="673776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将下面的数改写成用“万”或“亿”作单位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月，世界上大约诞生了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000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试管婴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人造卫星每分钟行          用最大的天文望远镜至少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90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米。                    以看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000000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颗星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我国每年生产和丢弃的一次性筷子达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5000000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双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需要砍伐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5000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棵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3" descr="103"/>
          <p:cNvPicPr/>
          <p:nvPr/>
        </p:nvPicPr>
        <p:blipFill>
          <a:blip r:embed="rId1"/>
          <a:stretch/>
        </p:blipFill>
        <p:spPr>
          <a:xfrm>
            <a:off x="5364000" y="2208240"/>
            <a:ext cx="2592720" cy="18288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102"/>
          <p:cNvPicPr/>
          <p:nvPr/>
        </p:nvPicPr>
        <p:blipFill>
          <a:blip r:embed="rId2"/>
          <a:stretch/>
        </p:blipFill>
        <p:spPr>
          <a:xfrm>
            <a:off x="1330200" y="2208240"/>
            <a:ext cx="28861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8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32"/>
          <p:cNvSpPr/>
          <p:nvPr/>
        </p:nvSpPr>
        <p:spPr>
          <a:xfrm>
            <a:off x="1216080" y="1574640"/>
            <a:ext cx="590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大数读写很重要，生活当中常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要想学好并不难，细心二字是关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位他有顺序表，四位一级要记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分级线是法宝，读写用好是绝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读写别小看，辨别位置是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39Z</dcterms:modified>
  <cp:revision>2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